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622-60B5-4B83-95A8-66CE4A1C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01E-98FF-42A5-812D-32E5D0F4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B8A-A9F0-4565-8F49-59710AF1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4B8-9110-4991-BF16-31B28EBB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9FA8-6CA0-44FF-B404-8E4CF2C4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90A0-F8C8-4826-9EA0-409C2D6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4E10-82FB-4A90-823A-A2536D1E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53A0-F5FB-44EF-A0C3-B8D1351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BB4F-6F55-4801-AD05-ACC7A25A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DC18-CCC7-4867-85C8-0EDDE039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FCCC-98CA-4D48-B1EE-611650D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76A-AE2A-4C50-82AE-8AA52A27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C9B-C679-479F-877A-6E354EE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024B-BDC1-459D-AF7B-746EB82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4B8B-4015-42C9-83BB-556A448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9D6-791E-4A72-B4B2-EED2ACD0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E64-591C-4126-808C-ED031249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959-8739-4554-B209-029CE793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CC5-3FC6-4D6E-96D9-0D1827A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676-FB88-472B-BECC-DD212877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292-5BFE-45B5-921E-DACD62BE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426-6C29-4E65-ADB3-9598F7FF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040-BD4B-42AE-830B-8B4CE9E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65C-4F43-4A30-A7F7-6CFFD02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6A38-83CB-4999-993B-D22C8232F1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5AE3-FB6B-43FC-9BD0-107F30070D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it Sli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it slip strategy requires the students to respond in writing to a prompt posed by the teacher at the end of clas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t slips allow students to reflect on and process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provide the teacher with feedback regarding student comprehension of the lesson content and/or attainment of the learning goal(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opular Exit Slip Websit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readwritethink.org/professional-development/strategy-guides/exit-slips-30760.htm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adlit.org/strategies/19805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readingrockets.org/strategies/exit_slips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ttp://www.edudemic.com/12-digital-tools-to-implement-exit-slips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918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ate yourself at the top of the exit slip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Content Placeholder 3" descr="questioning skills - Student Copy.png"/>
          <p:cNvPicPr/>
          <p:nvPr/>
        </p:nvPicPr>
        <p:blipFill>
          <a:blip r:embed="rId1"/>
          <a:srcRect l="0" t="-54606" r="0" b="-54606"/>
          <a:stretch/>
        </p:blipFill>
        <p:spPr>
          <a:xfrm>
            <a:off x="0" y="533520"/>
            <a:ext cx="1025064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10-06T12:59:47Z</cp:lastPrinted>
  <dcterms:modified xsi:type="dcterms:W3CDTF">2014-08-05T14:23:22Z</dcterms:modified>
  <cp:revision>332</cp:revision>
  <dc:subject/>
  <dc:title>Slide 1</dc:title>
</cp:coreProperties>
</file>